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A57-0F85-45BD-9303-A1A2203F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D47-3C4E-4669-90CF-9F389318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D86-70D9-4305-974B-A11BCC10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1B2-495F-4989-8005-E0F1FBFB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BBC-291F-43EF-9D93-CF8F6820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887-6DCE-42E3-A57C-BD7B167D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528-4A11-43DA-ABE0-CB4BE7C6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FCF-274F-4456-89C9-9B6B3F57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5E6-895F-4BC5-922D-8A87A86E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DE5-67F9-4449-8A4E-6B82BF8F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3EC-CB3B-4D7D-9EF7-24C10F4F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430-2623-468B-B4CB-F8941B9B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D900C-10FD-4D18-A90A-AF09FD4E192B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CEEDE-2C4E-4EF3-A368-40C0921172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narrative essay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told from a particular point of vie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kes and supports a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filled with precise detai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s vivid description wor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s conflict and sequence as does an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y use dialog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arrative Wri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My Family Road Trip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ve paragraph essa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agraph 1:  Int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subject?  1-2 sent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’s your take (thesis statement)?  1-2 sent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exactly are you going to tell us? 1-2 sent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ve paragraph essa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agraph 2, 3, and 4: Body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, situation, or story (2-3 sentence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fic details (3-4 sentence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ve paragraph essa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agraph 5: Conclusion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tate the thesis statement (1-2 sentence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rap up your story (2-3 sentence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DUE DATE: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Thursday, April 30</a:t>
            </a:r>
            <a:r>
              <a:rPr b="1" lang="en-US" sz="60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!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4:49:55Z</dcterms:created>
  <dc:creator>Shannan  Bowerman</dc:creator>
  <dc:description/>
  <dc:language>en-US</dc:language>
  <cp:lastModifiedBy>Shannan  Bowerman</cp:lastModifiedBy>
  <dcterms:modified xsi:type="dcterms:W3CDTF">2009-04-20T15:45:48Z</dcterms:modified>
  <cp:revision>3</cp:revision>
  <dc:subject/>
  <dc:title>Narrative Writing</dc:title>
</cp:coreProperties>
</file>